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9AA-6A2C-4326-B47E-EA4D5E43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EF5-1B76-4F0D-B4D4-0F0F19A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FE7AF-EB1E-44C7-A05C-41B5965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5D70-ED7F-4B92-9668-986743AC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AA8BC-8603-4990-B6EC-9DDFA98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B628A-D0FE-46AA-B4D3-E09481B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51EB8-77DE-452F-BFA9-00C0DC5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7E210-0615-4778-A8F5-1045122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6BDF1-151C-4DCC-99D8-B88F96B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8719-D0F6-404F-9880-E5EEFA8A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5806A-F98F-426C-A22A-1A3E7AB4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91DCD-A553-41BD-BF31-D86227D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16E-06F9-415B-B6DE-29E11AF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2E1DC-AF39-4D92-924F-66E7879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E733E-505C-465C-814D-5A7EE04E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B3C64-6A77-410D-B9E5-2094649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49918-60DB-4040-9B9A-91CF58D1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D308E-1268-4F4F-9351-41B5569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C5A99-24B8-4B0F-AD4F-7E4101D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69679-6FE0-4477-A52A-BD71CBF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3D06B-05F1-437B-8012-B33D5BA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5A228-620E-45DC-B13C-35919B06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459BA-DE4F-4A5E-8C8C-90354B7A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17A-B96E-4CC4-93D1-AB837B48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0287F-943F-4A36-863F-87734DA0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EB325-AB51-472A-BF7A-AD9D1159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CA58-BE8C-4F0A-90B7-C1A7DDE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F6BA-4577-4BFA-AD50-13D7615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CADC3-ECE0-4F78-A211-E07F4008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2769-835B-42C4-A422-86D9D429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B0927-9C32-45D0-ADBC-B9B6A02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071F-BCA1-4D8E-8198-C59FA25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EA75-975F-4CCF-AFDA-3E1463A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C47A-53F3-4863-BA9B-353DE9B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7BBB-0DBB-4AD5-BCC3-F3780156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DE133-687C-4B81-830F-72F92D0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3950A-85CA-418A-B38A-9AE22500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0156-A6BA-467B-88D0-8A7303DC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BE455-75AC-4DBE-992A-6334E4F8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4BD5C-BFF6-4E84-84CD-EEAE9CD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8C1F1-571A-4F6C-A5CB-91EC2E3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F369D-F34E-43E0-AC7F-0B693AAC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F04BD-72CD-4F88-A92F-4028F3B3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3BA71-8186-4A53-A93C-CF5E0D7C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D0A22-E3D2-4B40-B068-809D2C5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7AA-5D4E-4853-8AB9-D7BB712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3A52C-D4A8-4862-BC01-3FC7997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C905C-C2C4-4E5C-9BD9-9B8177F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80CFC-92C1-4F75-993D-D50F677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E3B00-E031-42CC-BA94-91B67FC1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CD63F-604D-45F0-8DEE-7EE79137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C0C-EE75-40CE-AC5C-7094102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504-7EF8-4866-AB3D-609E108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89C-15F9-403C-82E1-5875B0B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498-6028-48D3-BA7F-760365D1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9A03-33A5-4F0A-8967-7525467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CC7-1BEE-4C7B-863E-44F07A73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6464-EF1C-4907-A1E3-BFE224C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B0A-2B2E-47C1-B2AA-5C6C99A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096D-453F-46C3-949B-2D3C7C1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6AB3-7448-4C13-B7A1-9FE278EB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B85-AC2D-4EE9-8CCE-5BC383AF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A9FC-6B01-4D6A-96B4-7531322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540C-628E-42B7-AB98-BDFEA359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45F4-5B74-443F-A553-CF00A76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5D2E-3085-4F0E-BB04-B188B8F3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4689-2056-430B-B64F-360677E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239-238E-4253-971C-DF4271A6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3491-E4B6-4939-90C2-9B730ED9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3782-3BC5-4319-8ECA-3141237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CB5F-13E6-4B1B-A04E-3CD3A40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7F79-3CCC-4578-A5AD-C11592B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34C4-FE62-443E-96A5-3258399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5B32-63A4-4681-BD94-032B6F70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E3E0-A171-4F86-B393-7B8D1DC8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898D-C40D-40A5-AA4D-045953D0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D607-E40E-4A40-ADBB-AF9EBBDE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4342-D706-4E7D-B54E-ACDDD3E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B30-C0E0-43AF-9641-729B940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0DC4-8A0E-41B6-9860-668A2AA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D7CF8-7696-405C-A731-4283324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9ED5-70B7-4A39-81D9-E7DAE0C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D708-4347-49CB-95AF-D1E1CF5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CC8D-F727-4F9E-9204-03A910F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CFFD-299A-463C-8B89-AAFD913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C6B9-A554-48D1-97DA-BFD9AAB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672F-DE54-44CC-8FB6-489AAADD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76F7-214F-459F-A643-3E9AD543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AB73-E510-4E24-9132-B823F1BF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A88-B2AF-4B18-8566-FFD5A93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5959-EE44-4614-A8E1-A15C1FB7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EA5D-D605-4F1C-802F-E9760C2A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F1BD-61BC-44C0-929A-E68BC69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3120-5E51-4482-AA17-699B7245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CF3D-A052-464B-B59C-1D723E6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0732-3CB2-4070-AE74-FF52001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1F21-D409-404F-9405-5DB12C4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1E2D-2042-4E79-B405-60DFE266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3688-2E7C-4140-82AB-AEA589B2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A50E-C4F8-4913-9630-895CA755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043-90DC-486F-804A-C78C271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11BA-B9C0-4AA6-A8F0-B2563A30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9EA5-4EB6-452A-A1E6-F8067CB4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ECFA-D5F8-44B3-BD18-6BE1856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C315-7C89-4B8E-A4C9-566C6275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A94C-67E3-456C-B5D6-BFF7D68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6BFE2-75F2-4B72-B1E9-EDE2983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569F-851F-48F0-B2F2-63BF8C43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3895-E05C-43B3-AD53-9804BF7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1D73-9A51-49AB-BF31-92E8C37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B631-7FBF-4ACA-9387-F55CC3A5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B3B-BD37-4F0A-8615-8EA30F5B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19B3-1344-49B3-81BB-10E9E92B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D815-0020-4B16-BF76-C7EF38C9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0C86-6F56-43DF-ADC3-2B44B05C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664D-FE51-4488-B2B6-EB07BB94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B306-442E-4390-AB99-834A7C04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5A79-C601-4F9F-98E8-FE0C8A8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6252-33BC-4B0F-91ED-048FC18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FDB4-E4BC-4303-A56E-7028ED21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C7E8-DE8B-43BB-8237-1EE670D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C1C0-1F99-4ED4-BE36-25DB786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767-3A14-487A-ACFA-5ACE4D2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5D4B-3D44-4DFB-8B9B-E2E2168D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921F-48E2-4AB4-9A3F-A0425DC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9FB4-DBE0-4C29-9265-B7C3A37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522B-2D8D-4DB5-BF5B-0F29DA99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4B81-9A4D-4CB4-BB57-F89FD8FE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A0956-0AD7-45C3-BD2A-CA3D688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1871-A2EA-4353-9AE3-811BC0F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751C-A9E4-436D-80CB-0A22008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3B34A-8D8E-4BDC-B645-AD7A375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CB37-B551-494B-8E3A-DD7E87A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88B-D521-4140-BC91-92D793D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3B15D-D11E-4076-97CF-DA5B5A5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AFAD-9E17-4E75-95F3-2505E2AB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C247-AC77-4108-AF55-4BD27B8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666C-0950-4226-A5DB-F2D8142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1B46-9312-4398-B7BF-D695886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1A58-6FE5-4496-8B3C-96875A5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762F-73FE-4B84-80C0-DA2EDF29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E490-5977-46E1-97CE-83D95012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19636-B9AF-47B2-BE9A-036916F0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0A2B7-5540-4F5E-B2BC-D80480F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B37-C86E-4B8B-A385-2DADCA969F85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C4F-8F8E-4460-A058-F8A22EEC1B9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C421-46BA-46BE-A24D-C801E235D4D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949E-6CC7-4629-895D-289D7B57A73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A9D7-B394-4353-85E7-F7292353CAF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B22-D24D-4EC9-BC8B-26601DF40E0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74C1-E22C-446C-AC79-EDD88B94C256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E09C-B7B2-4545-9620-E9D37008D7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1A2-36EA-4B78-AF60-37C474515BF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53C-2DAC-49CA-9C4B-121F3754B4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0D3-4ED0-4A60-BE95-4B2E9D81B64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0370-CC34-49F9-91AC-D92048F8E81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BD2D-2CA8-4295-8B0F-C53DBBB94AC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95D-95DB-41C8-840C-A2B565265AB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736-3CFC-434F-B10F-EDA643BB28F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822-27E1-4D2C-B56C-DCF048D0205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4FE4-AB03-42E8-9648-A7DAFD3552B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250B-850D-441B-B4A8-1B07CC80A1E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F13-3BF6-4858-95E7-7CB08231949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41AB-0CB5-4CAB-A3E9-E43C2E12F2B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87F1-9935-4552-A228-DD660ED217D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D85-8E20-4A12-AB79-E1E37018C7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E57C-75C6-46A1-88F9-5C71FC8FB22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C53-69AC-4CFC-8564-69DE468B141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2101680" y="3251160"/>
            <a:ext cx="61153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147840" y="4132440"/>
            <a:ext cx="25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17600" y="309708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6"/>
          <p:cNvSpPr/>
          <p:nvPr/>
        </p:nvSpPr>
        <p:spPr>
          <a:xfrm>
            <a:off x="417600" y="3952800"/>
            <a:ext cx="793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565360" y="5070600"/>
            <a:ext cx="44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4878360" y="230040"/>
            <a:ext cx="4110120" cy="10461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500040" y="1276200"/>
            <a:ext cx="8002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to compete with my classmates at school. (1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竞争；对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 for sth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为某事而竞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mpete with /against s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与某人竞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rty people had t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ompete 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only ten open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十个人必须只为十个名额来竞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anno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ompete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ose postgradu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无法和那些研究生竞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4460760" y="228600"/>
            <a:ext cx="4424400" cy="10476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26880" y="1276200"/>
            <a:ext cx="80251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竞争、角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We won the contract in the face of stiff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ompeti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对激烈的竞争，我们赢得了这份合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v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竞争的，有竞争力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ive game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竞技性比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ompetit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80ff"/>
                </a:solidFill>
                <a:latin typeface="Arial"/>
                <a:ea typeface="宋体"/>
              </a:rPr>
              <a:t>竞争者、对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our main/major/nearest competito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们主要的竞争对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779400" y="1301760"/>
            <a:ext cx="75214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汉语提示完成下列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Many children are under too much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压力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My parents ask me to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竟争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ith my classmates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Tom is a 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成员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f the basketball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47880" y="283680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5138640" y="3540240"/>
            <a:ext cx="22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2925720" y="482760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矩形 6" descr=""/>
          <p:cNvPicPr/>
          <p:nvPr/>
        </p:nvPicPr>
        <p:blipFill>
          <a:blip r:embed="rId1"/>
          <a:stretch/>
        </p:blipFill>
        <p:spPr>
          <a:xfrm>
            <a:off x="3160800" y="442800"/>
            <a:ext cx="3381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矩形 6" descr=""/>
          <p:cNvPicPr/>
          <p:nvPr/>
        </p:nvPicPr>
        <p:blipFill>
          <a:blip r:embed="rId1"/>
          <a:stretch/>
        </p:blipFill>
        <p:spPr>
          <a:xfrm>
            <a:off x="3095640" y="39060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831960" y="949320"/>
            <a:ext cx="83120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项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Teenagers _____ allowed to dr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should not be        B. should b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not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Parents always like to _____ their  children _____ othe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compare, with    B. regard, as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compare, from   D. compare,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375000" y="14968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5424480" y="369576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矩形 6" descr=""/>
          <p:cNvPicPr/>
          <p:nvPr/>
        </p:nvPicPr>
        <p:blipFill>
          <a:blip r:embed="rId1"/>
          <a:stretch/>
        </p:blipFill>
        <p:spPr>
          <a:xfrm>
            <a:off x="3095640" y="39060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622440" y="950760"/>
            <a:ext cx="77691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The young ______ respect the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would      B. might     C. should     D.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He has to make lots of money _____ he can buy his children nice food and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so that                     B.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that                 D.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446640" y="958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477120" y="34592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u=336681655,3085969705&amp;fm=23&amp;gp=0"/>
          <p:cNvPicPr/>
          <p:nvPr/>
        </p:nvPicPr>
        <p:blipFill>
          <a:blip r:embed="rId1"/>
          <a:srcRect l="855" t="0" r="0" b="7269"/>
          <a:stretch/>
        </p:blipFill>
        <p:spPr>
          <a:xfrm>
            <a:off x="2066760" y="2921040"/>
            <a:ext cx="4822920" cy="300024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3"/>
          <p:cNvSpPr/>
          <p:nvPr/>
        </p:nvSpPr>
        <p:spPr>
          <a:xfrm>
            <a:off x="5372280" y="774720"/>
            <a:ext cx="3619440" cy="1471680"/>
          </a:xfrm>
          <a:prstGeom prst="wedgeEllipseCallout">
            <a:avLst>
              <a:gd name="adj1" fmla="val -36930"/>
              <a:gd name="adj2" fmla="val 50861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eft my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182520" y="598320"/>
            <a:ext cx="4253040" cy="1909800"/>
          </a:xfrm>
          <a:prstGeom prst="wedgeRoundRectCallout">
            <a:avLst>
              <a:gd name="adj1" fmla="val 42236"/>
              <a:gd name="adj2" fmla="val 50249"/>
              <a:gd name="adj3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tell it to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acher. You could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parents and ask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o bring it to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"/>
          <p:cNvSpPr/>
          <p:nvPr/>
        </p:nvSpPr>
        <p:spPr>
          <a:xfrm>
            <a:off x="274680" y="560520"/>
            <a:ext cx="3422520" cy="2198520"/>
          </a:xfrm>
          <a:prstGeom prst="wedgeRoundRectCallout">
            <a:avLst>
              <a:gd name="adj1" fmla="val 60874"/>
              <a:gd name="adj2" fmla="val 33912"/>
              <a:gd name="adj3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'm a little bit s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'm afraid of spe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n front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should I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u=3622206234,3993907881&amp;fm=23&amp;gp=0"/>
          <p:cNvPicPr/>
          <p:nvPr/>
        </p:nvPicPr>
        <p:blipFill>
          <a:blip r:embed="rId1"/>
          <a:srcRect l="0" t="0" r="0" b="5064"/>
          <a:stretch/>
        </p:blipFill>
        <p:spPr>
          <a:xfrm>
            <a:off x="3097080" y="1405080"/>
            <a:ext cx="2979720" cy="4138560"/>
          </a:xfrm>
          <a:prstGeom prst="rect">
            <a:avLst/>
          </a:prstGeom>
          <a:ln w="0">
            <a:noFill/>
          </a:ln>
        </p:spPr>
      </p:pic>
      <p:sp>
        <p:nvSpPr>
          <p:cNvPr id="585" name="AutoShape 4"/>
          <p:cNvSpPr/>
          <p:nvPr/>
        </p:nvSpPr>
        <p:spPr>
          <a:xfrm>
            <a:off x="6076800" y="2759040"/>
            <a:ext cx="2847960" cy="2784600"/>
          </a:xfrm>
          <a:prstGeom prst="wedgeRoundRectCallout">
            <a:avLst>
              <a:gd name="adj1" fmla="val -53810"/>
              <a:gd name="adj2" fmla="val -52342"/>
              <a:gd name="adj3" fmla="val 16667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ore conf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p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ports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riends aft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401760" y="352440"/>
            <a:ext cx="8354880" cy="1574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activities do you like to do to help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wer your stress? Order them [1-8] with 1 b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ost favorite thing you do to lower stress 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u4B_1a"/>
          <p:cNvPicPr/>
          <p:nvPr/>
        </p:nvPicPr>
        <p:blipFill>
          <a:blip r:embed="rId1"/>
          <a:srcRect l="18362" t="0" r="17933" b="0"/>
          <a:stretch/>
        </p:blipFill>
        <p:spPr>
          <a:xfrm>
            <a:off x="6153120" y="3340080"/>
            <a:ext cx="2965320" cy="34923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701640" y="2238480"/>
            <a:ext cx="5451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play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hang out with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talk to parents or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spend time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play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watch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_____ other: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974880" y="552780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74880" y="213660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974880" y="278136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974880" y="459432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974880" y="501012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974880" y="386388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974880" y="3300480"/>
            <a:ext cx="6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857160" y="507960"/>
            <a:ext cx="6232680" cy="3097080"/>
          </a:xfrm>
          <a:prstGeom prst="cloudCallout">
            <a:avLst>
              <a:gd name="adj1" fmla="val 46027"/>
              <a:gd name="adj2" fmla="val 72527"/>
            </a:avLst>
          </a:prstGeom>
          <a:solidFill>
            <a:srgbClr val="ffffff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b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ell your part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bout your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in 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2"/>
          <p:cNvSpPr/>
          <p:nvPr/>
        </p:nvSpPr>
        <p:spPr>
          <a:xfrm>
            <a:off x="571680" y="352440"/>
            <a:ext cx="830232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sten and check (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the problems Wei 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s about.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571680" y="2030400"/>
            <a:ext cx="81327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My parents give me a lot of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ou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don't get enough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don't have enough fre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had a fight with my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 I have to compete with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assmates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844560" y="203040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844560" y="358920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844560" y="4656240"/>
            <a:ext cx="8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U4 Section B 1c.mp3" descr="U4 Section B 1c"/>
          <p:cNvPicPr/>
          <p:nvPr/>
        </p:nvPicPr>
        <p:blipFill>
          <a:blip r:embed="rId1"/>
          <a:stretch/>
        </p:blipFill>
        <p:spPr>
          <a:xfrm>
            <a:off x="6657840" y="954000"/>
            <a:ext cx="75276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59507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isten again. What advice does Alice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 Wei Ming? Fill in the blanks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662040" y="2017800"/>
            <a:ext cx="80424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Although you may be __________ with you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ents, you should talk to them. Ask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they give you so much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Life shouldn't just be about 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ee time activities like _________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ging out with friends are important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064120" y="222552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5954760" y="360216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5954760" y="428796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305320" y="4807080"/>
            <a:ext cx="17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U4 Section B 1d.mp3" descr="U4 Section B 1d"/>
          <p:cNvPicPr/>
          <p:nvPr/>
        </p:nvPicPr>
        <p:blipFill>
          <a:blip r:embed="rId1"/>
          <a:stretch/>
        </p:blipFill>
        <p:spPr>
          <a:xfrm>
            <a:off x="7300800" y="1143000"/>
            <a:ext cx="8748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063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isten again. What advice does Alice 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 Wei Ming? Fill in the blanks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828720" y="2232000"/>
            <a:ext cx="7875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 You shouldn't _________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assmates to get better grades. Yo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uld all be _________ each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381560" y="247032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4381560" y="3860640"/>
            <a:ext cx="17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el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401760" y="352440"/>
            <a:ext cx="8302680" cy="1352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is your advice for Wei Ming? Tell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tner and say why.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u=106307706,1496798218&amp;fm=21&amp;gp=0"/>
          <p:cNvPicPr/>
          <p:nvPr/>
        </p:nvPicPr>
        <p:blipFill>
          <a:blip r:embed="rId1"/>
          <a:stretch/>
        </p:blipFill>
        <p:spPr>
          <a:xfrm>
            <a:off x="2335320" y="2784600"/>
            <a:ext cx="3579840" cy="313668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4"/>
          <p:cNvSpPr/>
          <p:nvPr/>
        </p:nvSpPr>
        <p:spPr>
          <a:xfrm>
            <a:off x="5654520" y="2225520"/>
            <a:ext cx="2511720" cy="1627200"/>
          </a:xfrm>
          <a:prstGeom prst="wedgeRoundRectCallout">
            <a:avLst>
              <a:gd name="adj1" fmla="val -41657"/>
              <a:gd name="adj2" fmla="val 77986"/>
              <a:gd name="adj3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 think W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ing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552600" y="2225520"/>
            <a:ext cx="1782720" cy="1092240"/>
          </a:xfrm>
          <a:prstGeom prst="wedgeEllipseCallout">
            <a:avLst>
              <a:gd name="adj1" fmla="val 67208"/>
              <a:gd name="adj2" fmla="val 59300"/>
            </a:avLst>
          </a:prstGeom>
          <a:solidFill>
            <a:srgbClr val="ff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6"/>
          <p:cNvSpPr/>
          <p:nvPr/>
        </p:nvSpPr>
        <p:spPr>
          <a:xfrm>
            <a:off x="5915160" y="4762440"/>
            <a:ext cx="2536560" cy="1158840"/>
          </a:xfrm>
          <a:prstGeom prst="cloudCallout">
            <a:avLst>
              <a:gd name="adj1" fmla="val -72444"/>
              <a:gd name="adj2" fmla="val -61453"/>
            </a:avLst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caus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2:3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